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963-6B2A-4AE5-97CB-DDDD3A02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6B6-4D2C-4364-A3FE-07BEBE72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B9E-650D-4531-9F97-9928688B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97D-8F69-4B96-B085-547DDED8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8F6-3062-4EAA-BB37-AA0C698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AEC-A017-4392-B33A-E7F714E5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38D-866D-4ECA-B256-56AACFDF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790-51B4-489C-B86C-653FBBB4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41C-DA6D-4061-8296-041447E1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5F9-5086-4078-92B9-C123EA9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49C-802C-475D-A6FC-29CAFB4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3BA-FCE7-4AEC-A483-2D79AFFA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2531-5D50-487D-AF66-D8802088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and 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&amp;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=    TAC  GGT  TAG  CGC  GCA  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RNA = AUG  CCA  AUC  GCG  CGU U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cids =    Met     Pro     Iso      Ala  Arg 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Anti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Codon:    UAC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GGU  UAG  CGC GCA AU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s and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are microscopic tools, each specifically designed to build or operate a component of a living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A gene that codes for an enzyme that produce pigment can control the flower color of the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- rib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the base uracil instead of thymine, therefore A binds with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809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enger RNA (mRNA) carries the message of DNA to the rib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al RNA (rRNA) Used in the assembly of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RNA (tRNA) brings amino acids to the ribosomes for assembly of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234468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43200" y="2057400"/>
            <a:ext cx="16574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building a mRNA copy of DN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polymerase binds to DNA and separates the DNA strands, then uses one strand of DNA to make a RNA template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NA polymerase binds to promotors on the DNA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57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consists of noncoding reg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ding reg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ns are cut out and a 5’ cap and poly A tail are place on the mRNA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0388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converting the mRNA sequence into a sequence of amino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3 bases in a strand of mRNA represent a codon that codes for a specific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codon (tRN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mplementary to the mRNA codon, therefore bringing the correct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1148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09560" y="900000"/>
            <a:ext cx="592488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708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1:57:35Z</dcterms:created>
  <dc:creator>Lynette Baker</dc:creator>
  <dc:description/>
  <dc:language>en-US</dc:language>
  <cp:lastModifiedBy>Perquimans County Schools</cp:lastModifiedBy>
  <dcterms:modified xsi:type="dcterms:W3CDTF">2007-11-19T15:34:03Z</dcterms:modified>
  <cp:revision>5</cp:revision>
  <dc:subject/>
  <dc:title>RNA and Protein Synthesis</dc:title>
</cp:coreProperties>
</file>